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D751-23A4-4C42-8049-A3A6B967FA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йэт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915-1665-4EB6-BDDD-214A8DB2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95E-4E07-41D8-8F5C-EC8A5F67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360-9F5F-4377-B925-E16C9AF0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CC4-7369-47B3-B93D-CD994CFE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9A2F-0B21-4582-B9DB-87CC6E2F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3784-89CF-48DD-96FB-E6DB0B6C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CDEB-716A-40F3-AF7B-069836EC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1FD2-ECAE-4D6E-8DF0-3ED2B18C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4A9C-051A-4245-BB52-F1C001C1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2FB5-6A9E-4C0D-92F1-6A49308B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1C61-07D2-4A77-ADDD-1B5D1CE9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7C4-6F34-4BB2-9BF7-A40A6A52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436D-B675-4E19-82C0-A8F121CC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6AC5-5E66-4DF0-9F0D-12814759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077E-B9CA-48D0-9EF7-E26DE965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A838-42B6-4E0D-9079-A6734419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3CBA-A709-4263-9918-DFA0ED8B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A13-7596-4DF2-A03C-DC2D80FA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39D-A50E-4BDB-BC31-C877B38F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A97-850C-4C42-BE1F-FE869EEF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003-49C2-4FBF-971D-3D30E4DD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BD0-27CA-4FCA-97D1-3E6AB086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9FA-DD83-4573-B14E-8AB4058F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BCB-BB83-464C-A4B4-3D6BA600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8FA3-C83E-4A85-B11B-4D8EC764CF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B0A8-86E0-4329-BED7-F5BDD5EBEC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2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3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4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5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6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7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8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9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10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11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12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13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0;&#1084;&#1084;&#1072;%20&#1040;&#1095;&#1095;&#1099;&#1075;&#1099;&#1081;&#1099;&#1085;%20&#1090;&#1086;&#1088;&#1076;&#1086;-&#1091;&#1091;&#1100;&#1072;.ppt" TargetMode="External"/><Relationship Id="rId2" Type="http://schemas.openxmlformats.org/officeDocument/2006/relationships/hyperlink" Target="file:///&#1040;&#1084;&#1084;&#1072;%20&#1040;&#1095;&#1095;&#1099;&#1075;&#1099;&#1081;&#1099;&#1085;%20&#1090;&#1086;&#1088;&#1076;&#1086;-&#1091;&#1091;&#1100;&#1072;.ppt" TargetMode="External"/><Relationship Id="rId3" Type="http://schemas.openxmlformats.org/officeDocument/2006/relationships/hyperlink" Target="file:///&#1040;&#1084;&#1084;&#1072;%20&#1040;&#1095;&#1095;&#1099;&#1075;&#1099;&#1081;&#1099;&#1085;%20&#1090;&#1086;&#1088;&#1076;&#1086;-&#1091;&#1091;&#1100;&#1072;.ppt" TargetMode="External"/><Relationship Id="rId4" Type="http://schemas.openxmlformats.org/officeDocument/2006/relationships/hyperlink" Target="file:///&#1040;&#1084;&#1084;&#1072;%20&#1040;&#1095;&#1095;&#1099;&#1075;&#1099;&#1081;&#1099;&#1085;%20&#1090;&#1086;&#1088;&#1076;&#1086;-&#1091;&#1091;&#1100;&#1072;.ppt" TargetMode="External"/><Relationship Id="rId5" Type="http://schemas.openxmlformats.org/officeDocument/2006/relationships/hyperlink" Target="file:///&#1040;&#1084;&#1084;&#1072;%20&#1040;&#1095;&#1095;&#1099;&#1075;&#1099;&#1081;&#1099;&#1085;%20&#1086;&#1083;&#1086;5&#1086;.doc" TargetMode="External"/><Relationship Id="rId6" Type="http://schemas.openxmlformats.org/officeDocument/2006/relationships/hyperlink" Target="file:///&#1040;&#1084;&#1084;&#1072;%20&#1040;&#1095;&#1095;&#1099;&#1075;&#1099;&#1081;&#1099;&#1085;%20&#1086;&#1083;&#1086;5&#1086;.doc" TargetMode="External"/><Relationship Id="rId7" Type="http://schemas.openxmlformats.org/officeDocument/2006/relationships/hyperlink" Target="file:///&#1040;&#1084;&#1084;&#1072;%20&#1040;&#1095;&#1095;&#1099;&#1075;&#1099;&#1081;&#1099;&#1085;%20&#1086;&#1083;&#1086;5&#1086;.doc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7;&#1091;&#1088;&#1091;&#1081;&#1072;&#1072;&#1095;&#1095;&#1099;%20&#1086;&#1083;&#1086;5&#1091;&#1085;%20&#1082;&#1101;&#1087;&#1089;&#1101;&#1101;&#1085;&#1101;.ppt" TargetMode="External"/><Relationship Id="rId2" Type="http://schemas.openxmlformats.org/officeDocument/2006/relationships/hyperlink" Target="file:///&#1057;&#1091;&#1088;&#1091;&#1081;&#1072;&#1072;&#1095;&#1095;&#1099;%20&#1086;&#1083;&#1086;5&#1091;&#1085;%20&#1082;&#1101;&#1087;&#1089;&#1101;&#1101;&#1085;&#1101;.ppt" TargetMode="External"/><Relationship Id="rId3" Type="http://schemas.openxmlformats.org/officeDocument/2006/relationships/hyperlink" Target="file:///&#1057;&#1091;&#1088;&#1091;&#1081;&#1072;&#1072;&#1095;&#1095;&#1099;%20&#1086;&#1083;&#1086;5&#1091;&#1085;%20&#1082;&#1101;&#1087;&#1089;&#1101;&#1101;&#1085;&#1101;.ppt" TargetMode="External"/><Relationship Id="rId4" Type="http://schemas.openxmlformats.org/officeDocument/2006/relationships/hyperlink" Target="file:///&#1040;&#1084;&#1084;&#1072;%20&#1040;&#1095;&#1095;&#1099;&#1075;&#1099;&#1081;&#1099;&#1085;%20&#1086;&#1083;&#1086;5&#1086;.doc" TargetMode="External"/><Relationship Id="rId5" Type="http://schemas.openxmlformats.org/officeDocument/2006/relationships/hyperlink" Target="file:///&#1040;&#1084;&#1084;&#1072;%20&#1040;&#1095;&#1095;&#1099;&#1075;&#1099;&#1081;&#1099;&#1085;%20&#1086;&#1083;&#1086;5&#1086;.doc" TargetMode="External"/><Relationship Id="rId6" Type="http://schemas.openxmlformats.org/officeDocument/2006/relationships/hyperlink" Target="file:///&#1040;&#1084;&#1084;&#1072;%20&#1040;&#1095;&#1095;&#1099;&#1075;&#1099;&#1081;&#1099;&#1085;%20&#1086;&#1083;&#1086;5&#1086;.doc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8;&#1081;&#1101;%20&#1093;&#1086;h&#1086;&#1086;&#1085;.doc" TargetMode="External"/><Relationship Id="rId2" Type="http://schemas.openxmlformats.org/officeDocument/2006/relationships/hyperlink" Target="file:///&#1048;&#1081;&#1101;%20&#1093;&#1086;h&#1086;&#1086;&#1085;.doc" TargetMode="External"/><Relationship Id="rId3" Type="http://schemas.openxmlformats.org/officeDocument/2006/relationships/hyperlink" Target="file:///&#1048;&#1081;&#1101;%20&#1093;&#1086;h&#1086;&#1086;&#1085;.doc" TargetMode="External"/><Relationship Id="rId4" Type="http://schemas.openxmlformats.org/officeDocument/2006/relationships/hyperlink" Target="file:///&#1048;&#1081;&#1101;%20&#1093;&#1086;h&#1086;&#1086;&#1085;.doc" TargetMode="External"/><Relationship Id="rId5" Type="http://schemas.openxmlformats.org/officeDocument/2006/relationships/hyperlink" Target="file:///&#1048;&#1081;&#1101;%20&#1093;&#1086;h&#1086;&#1086;&#1085;.doc" TargetMode="External"/><Relationship Id="rId6" Type="http://schemas.openxmlformats.org/officeDocument/2006/relationships/hyperlink" Target="file:///&#1057;&#1091;&#1088;&#1091;&#1081;&#1072;&#1072;&#1095;&#1095;&#1099;%20&#1087;&#1086;&#1101;&#1090;&#1080;&#1095;&#1077;&#1089;&#1082;&#1072;&#1081;%20&#1072;&#1081;&#1099;&#1084;&#1085;&#1100;&#1099;&#1083;&#1072;&#1088;&#1072;.ppt" TargetMode="External"/><Relationship Id="rId7" Type="http://schemas.openxmlformats.org/officeDocument/2006/relationships/hyperlink" Target="file:///&#1057;&#1091;&#1088;&#1091;&#1081;&#1072;&#1072;&#1095;&#1095;&#1099;%20&#1087;&#1086;&#1101;&#1090;&#1080;&#1095;&#1077;&#1089;&#1082;&#1072;&#1081;%20&#1072;&#1081;&#1099;&#1084;&#1085;&#1100;&#1099;&#1083;&#1072;&#1088;&#1072;.ppt" TargetMode="External"/><Relationship Id="rId8" Type="http://schemas.openxmlformats.org/officeDocument/2006/relationships/hyperlink" Target="file:///&#1057;&#1091;&#1088;&#1091;&#1081;&#1072;&#1072;&#1095;&#1095;&#1099;%20&#1087;&#1086;&#1101;&#1090;&#1080;&#1095;&#1077;&#1089;&#1082;&#1072;&#1081;%20&#1072;&#1081;&#1099;&#1084;&#1085;&#1100;&#1099;&#1083;&#1072;&#1088;&#1072;.ppt" TargetMode="External"/><Relationship Id="rId9" Type="http://schemas.openxmlformats.org/officeDocument/2006/relationships/hyperlink" Target="file:///&#1057;&#1091;&#1088;&#1091;&#1081;&#1072;&#1072;&#1095;&#1095;&#1099;%20&#1087;&#1086;&#1101;&#1090;&#1080;&#1095;&#1077;&#1089;&#1082;&#1072;&#1081;%20&#1072;&#1081;&#1099;&#1084;&#1085;&#1100;&#1099;&#1083;&#1072;&#1088;&#1072;.ppt" TargetMode="External"/><Relationship Id="rId10" Type="http://schemas.openxmlformats.org/officeDocument/2006/relationships/hyperlink" Target="file:///&#1087;&#1086;&#1101;&#1090;&#1080;&#1095;&#1077;&#1089;&#1082;&#1072;&#1081;%20&#1072;&#1081;&#1099;&#1084;&#1085;&#1100;&#1099;&#1083;&#1072;&#1088;&#1072;.doc" TargetMode="External"/><Relationship Id="rId11" Type="http://schemas.openxmlformats.org/officeDocument/2006/relationships/hyperlink" Target="file:///&#1055;&#1088;&#1086;&#1079;&#1072;&#1080;&#1095;&#1077;&#1089;&#1082;&#1072;&#1081;%20&#1072;&#1081;&#1099;&#1084;&#1085;&#1100;&#1099;&#1083;&#1072;&#1088;&#1072;.ppt" TargetMode="External"/><Relationship Id="rId12" Type="http://schemas.openxmlformats.org/officeDocument/2006/relationships/hyperlink" Target="file:///&#1055;&#1088;&#1086;&#1079;&#1072;&#1080;&#1095;&#1077;&#1089;&#1082;&#1072;&#1081;%20&#1072;&#1081;&#1099;&#1084;&#1085;&#1100;&#1099;&#1083;&#1072;&#1088;&#1072;.ppt" TargetMode="External"/><Relationship Id="rId13" Type="http://schemas.openxmlformats.org/officeDocument/2006/relationships/hyperlink" Target="file:///&#1055;&#1088;&#1086;&#1079;&#1072;&#1080;&#1095;&#1077;&#1089;&#1082;&#1072;&#1081;%20&#1072;&#1081;&#1099;&#1084;&#1085;&#1100;&#1099;&#1083;&#1072;&#1088;&#1072;.ppt" TargetMode="External"/><Relationship Id="rId14" Type="http://schemas.openxmlformats.org/officeDocument/2006/relationships/hyperlink" Target="file:///&#1055;&#1088;&#1086;&#1079;&#1072;&#1080;&#1095;&#1077;&#1089;&#1082;&#1072;&#1081;%20&#1072;&#1081;&#1099;&#1084;&#1085;&#1100;&#1099;&#1083;&#1072;&#1088;&#1072;.ppt" TargetMode="External"/><Relationship Id="rId15" Type="http://schemas.openxmlformats.org/officeDocument/2006/relationships/hyperlink" Target="file:///&#1087;&#1088;&#1086;&#1079;&#1072;&#1080;&#1095;&#1077;&#1089;&#1082;&#1072;&#1081;%20&#1072;&#1081;&#1099;&#1084;&#1085;&#1100;&#1099;&#1083;&#1072;&#1088;&#1072;.doc" TargetMode="External"/><Relationship Id="rId16" Type="http://schemas.openxmlformats.org/officeDocument/2006/relationships/hyperlink" Target="file:///&#1076;&#1088;&#1072;&#1084;&#1072;&#1090;&#1080;&#1095;&#1077;&#1089;&#1082;&#1072;&#1081;%20&#1072;&#1081;&#1099;&#1084;&#1085;&#1100;&#1099;&#1083;&#1072;&#1088;&#1072;.doc" TargetMode="External"/><Relationship Id="rId17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18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19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0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1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2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3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4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5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6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27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28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29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30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31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32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33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34" Type="http://schemas.openxmlformats.org/officeDocument/2006/relationships/hyperlink" Target="file:///&#1040;.&#1040;.%20&#1057;&#1072;&#1072;&#1089;&#1082;&#1099;%20&#1082;&#1101;&#1084;%20&#1088;&#1086;&#1084;&#1072;&#1085;&#1099;&#1085;%202%20&#1088;&#1077;&#1076;&#1072;&#1082;&#1094;&#1080;&#1103;&#1090;&#1072;%20&#1082;&#1088;&#1080;&#1090;&#1080;&#1082;&#1072;5&#1072;.doc" TargetMode="External"/><Relationship Id="rId35" Type="http://schemas.openxmlformats.org/officeDocument/2006/relationships/hyperlink" Target="file:///&#1061;&#1088;&#1086;&#1085;&#1086;&#1083;&#1086;&#1075;&#1080;&#1103;%20&#1080;&#1079;&#1076;&#1072;&#1085;&#1080;&#1081;%20&#1088;&#1086;&#1084;&#1072;&#1085;&#1072;%20&#1042;&#1077;&#1089;&#1077;&#1085;&#1085;&#1103;&#1103;%20&#1087;&#1086;&#1088;&#1072;.doc" TargetMode="External"/><Relationship Id="rId36" Type="http://schemas.openxmlformats.org/officeDocument/2006/relationships/hyperlink" Target="file:///&#1058;&#1099;&#1083;&#1073;&#1072;&#1072;&#1089;&#1090;&#1072;&#1088;&#1072;.ppt" TargetMode="External"/><Relationship Id="rId37" Type="http://schemas.openxmlformats.org/officeDocument/2006/relationships/hyperlink" Target="file:///&#1058;&#1099;&#1083;&#1073;&#1072;&#1072;&#1089;&#1090;&#1072;&#1088;&#1072;.ppt" TargetMode="External"/><Relationship Id="rId38" Type="http://schemas.openxmlformats.org/officeDocument/2006/relationships/hyperlink" Target="file:///&#1058;&#1099;&#1083;&#1073;&#1072;&#1072;&#1089;&#1090;&#1072;&#1088;&#1072;.doc" TargetMode="External"/><Relationship Id="rId39" Type="http://schemas.openxmlformats.org/officeDocument/2006/relationships/hyperlink" Target="file:///&#1040;&#1093;&#1090;&#1099;&#1099;&#1083;&#1072;&#1088;&#1072;.ppt" TargetMode="External"/><Relationship Id="rId40" Type="http://schemas.openxmlformats.org/officeDocument/2006/relationships/hyperlink" Target="file:///&#1040;&#1093;&#1090;&#1099;&#1099;&#1083;&#1072;&#1088;&#1072;.doc" TargetMode="External"/><Relationship Id="rId41" Type="http://schemas.openxmlformats.org/officeDocument/2006/relationships/hyperlink" Target="file:///15%20&#1083;&#1077;&#1082;&#1094;&#1080;&#1103;%20-%20&#1052;&#1086;&#1088;&#1076;&#1080;&#1085;&#1086;&#1074;%20&#1074;%20&#1075;&#1072;&#1079;&#1077;&#1090;&#1077;%20&#1041;&#1101;&#1083;&#1101;&#1084;%20&#1073;&#1091;&#1086;&#1083;/&#1040;&#1084;&#1084;&#1072;%20&#1040;&#1095;&#1095;&#1099;&#1075;&#1099;&#1081;&#1072;%20&#171;&#1041;&#1101;&#1083;&#1101;&#1084;%20&#1073;&#1091;&#1086;&#1083;&#1075;&#1072;&#187;.ppt" TargetMode="External"/><Relationship Id="rId42" Type="http://schemas.openxmlformats.org/officeDocument/2006/relationships/hyperlink" Target="file:///15%20&#1083;&#1077;&#1082;&#1094;&#1080;&#1103;%20-%20&#1052;&#1086;&#1088;&#1076;&#1080;&#1085;&#1086;&#1074;%20&#1074;%20&#1075;&#1072;&#1079;&#1077;&#1090;&#1077;%20&#1041;&#1101;&#1083;&#1101;&#1084;%20&#1073;&#1091;&#1086;&#1083;/&#1040;&#1084;&#1084;&#1072;%20&#1040;&#1095;&#1095;&#1099;&#1075;&#1099;&#1081;&#1072;%20&#171;&#1041;&#1101;&#1083;&#1101;&#1084;%20&#1073;&#1091;&#1086;&#1083;&#1075;&#1072;&#187;.ppt" TargetMode="External"/><Relationship Id="rId43" Type="http://schemas.openxmlformats.org/officeDocument/2006/relationships/hyperlink" Target="file:///15%20&#1083;&#1077;&#1082;&#1094;&#1080;&#1103;%20-%20&#1052;&#1086;&#1088;&#1076;&#1080;&#1085;&#1086;&#1074;%20&#1074;%20&#1075;&#1072;&#1079;&#1077;&#1090;&#1077;%20&#1041;&#1101;&#1083;&#1101;&#1084;%20&#1073;&#1091;&#1086;&#1083;/&#1040;&#1084;&#1084;&#1072;%20&#1040;&#1095;&#1095;&#1099;&#1075;&#1099;&#1081;&#1072;%20&#171;&#1041;&#1101;&#1083;&#1101;&#1084;%20&#1073;&#1091;&#1086;&#1083;&#1075;&#1072;&#187;.ppt" TargetMode="External"/><Relationship Id="rId44" Type="http://schemas.openxmlformats.org/officeDocument/2006/relationships/hyperlink" Target="file:///15%20&#1083;&#1077;&#1082;&#1094;&#1080;&#1103;%20-%20&#1052;&#1086;&#1088;&#1076;&#1080;&#1085;&#1086;&#1074;%20&#1074;%20&#1075;&#1072;&#1079;&#1077;&#1090;&#1077;%20&#1041;&#1101;&#1083;&#1101;&#1084;%20&#1073;&#1091;&#1086;&#1083;/&#1040;&#1084;&#1084;&#1072;%20&#1040;&#1095;&#1095;&#1099;&#1075;&#1099;&#1081;&#1072;%20&#171;&#1041;&#1101;&#1083;&#1101;&#1084;%20&#1073;&#1091;&#1086;&#1083;&#1075;&#1072;&#187;.ppt" TargetMode="External"/><Relationship Id="rId45" Type="http://schemas.openxmlformats.org/officeDocument/2006/relationships/hyperlink" Target="file:///15%20&#1083;&#1077;&#1082;&#1094;&#1080;&#1103;%20-%20&#1052;&#1086;&#1088;&#1076;&#1080;&#1085;&#1086;&#1074;%20&#1074;%20&#1075;&#1072;&#1079;&#1077;&#1090;&#1077;%20&#1041;&#1101;&#1083;&#1101;&#1084;%20&#1073;&#1091;&#1086;&#1083;/&#1040;&#1084;&#1084;&#1072;%20&#1040;&#1095;&#1095;&#1099;&#1075;&#1099;&#1081;&#1072;%20&#171;&#1041;&#1101;&#1083;&#1101;&#1084;%20&#1073;&#1091;&#1086;&#1083;&#1075;&#1072;&#187;.ppt" TargetMode="External"/><Relationship Id="rId4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мма Аччыгыйын оло5о,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йар улэтэ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00360" y="2781360"/>
            <a:ext cx="4012920" cy="1822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(06.01.1906-14.11.1994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суруйааччы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дьиэ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кэргэнин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туhунан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билиэххин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 ба5арар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буоллаххына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, манна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киир.ppt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4"/>
          <a:stretch/>
        </p:blipFill>
        <p:spPr>
          <a:xfrm>
            <a:off x="250920" y="1844640"/>
            <a:ext cx="3813120" cy="486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0" y="0"/>
          <a:ext cx="182520" cy="3776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7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800" y="3776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3240" y="822960"/>
            <a:ext cx="7372440" cy="797040"/>
          </a:xfrm>
          <a:prstGeom prst="rect">
            <a:avLst/>
          </a:prstGeom>
          <a:solidFill>
            <a:srgbClr val="ccff99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уруйааччы оло5ун кэпсээнэ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417080" cy="372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1906 с. тохсунньу 6 кунугэр Боотурускай улуус Уус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мма нэ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лиэгэр Содуоччуйэ уонна Дьогуордээн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ординовтарга бастакы о5онон торообутэ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Амма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Аччыгыйын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тордо-ууьа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Амма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Аччыгыйын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 оло5о.doc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8604360" y="6597720"/>
            <a:ext cx="285480" cy="260280"/>
          </a:xfrm>
          <a:custGeom>
            <a:avLst/>
            <a:gdLst>
              <a:gd name="textAreaLeft" fmla="*/ 16560 w 285480"/>
              <a:gd name="textAreaRight" fmla="*/ 268920 w 2854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688" h="21600">
                <a:moveTo>
                  <a:pt x="0" y="0"/>
                </a:moveTo>
                <a:lnTo>
                  <a:pt x="23688" y="0"/>
                </a:lnTo>
                <a:lnTo>
                  <a:pt x="23688" y="21600"/>
                </a:lnTo>
                <a:lnTo>
                  <a:pt x="0" y="21600"/>
                </a:lnTo>
                <a:close/>
              </a:path>
              <a:path fill="lightenLess" w="23688" h="21600">
                <a:moveTo>
                  <a:pt x="0" y="0"/>
                </a:moveTo>
                <a:lnTo>
                  <a:pt x="23688" y="0"/>
                </a:lnTo>
                <a:lnTo>
                  <a:pt x="22288" y="1400"/>
                </a:lnTo>
                <a:lnTo>
                  <a:pt x="1400" y="1400"/>
                </a:lnTo>
                <a:close/>
              </a:path>
              <a:path fill="darken" w="23688" h="21600">
                <a:moveTo>
                  <a:pt x="23688" y="0"/>
                </a:moveTo>
                <a:lnTo>
                  <a:pt x="23688" y="21600"/>
                </a:lnTo>
                <a:lnTo>
                  <a:pt x="22288" y="20200"/>
                </a:lnTo>
                <a:lnTo>
                  <a:pt x="22288" y="1400"/>
                </a:lnTo>
                <a:close/>
              </a:path>
              <a:path fill="darkenLess" w="23688" h="21600">
                <a:moveTo>
                  <a:pt x="23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8" y="20200"/>
                </a:lnTo>
                <a:close/>
              </a:path>
              <a:path fill="lighten" w="23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88" h="21600">
                <a:moveTo>
                  <a:pt x="4838" y="10800"/>
                </a:moveTo>
                <a:lnTo>
                  <a:pt x="18851" y="3794"/>
                </a:lnTo>
                <a:lnTo>
                  <a:pt x="18851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cccc"/>
          </a:solidFill>
          <a:ln w="9360">
            <a:solidFill>
              <a:srgbClr val="990099"/>
            </a:solidFill>
            <a:miter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мма Аччыгыйын оло5ун кэпсээнэ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Суруйааччы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 оло5ун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кэпсээнэ.pp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Амма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Аччыгыйын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 оло5о.doc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8604360" y="6597720"/>
            <a:ext cx="285480" cy="260280"/>
          </a:xfrm>
          <a:custGeom>
            <a:avLst/>
            <a:gdLst>
              <a:gd name="textAreaLeft" fmla="*/ 16560 w 285480"/>
              <a:gd name="textAreaRight" fmla="*/ 268920 w 2854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688" h="21600">
                <a:moveTo>
                  <a:pt x="0" y="0"/>
                </a:moveTo>
                <a:lnTo>
                  <a:pt x="23688" y="0"/>
                </a:lnTo>
                <a:lnTo>
                  <a:pt x="23688" y="21600"/>
                </a:lnTo>
                <a:lnTo>
                  <a:pt x="0" y="21600"/>
                </a:lnTo>
                <a:close/>
              </a:path>
              <a:path fill="lightenLess" w="23688" h="21600">
                <a:moveTo>
                  <a:pt x="0" y="0"/>
                </a:moveTo>
                <a:lnTo>
                  <a:pt x="23688" y="0"/>
                </a:lnTo>
                <a:lnTo>
                  <a:pt x="22288" y="1400"/>
                </a:lnTo>
                <a:lnTo>
                  <a:pt x="1400" y="1400"/>
                </a:lnTo>
                <a:close/>
              </a:path>
              <a:path fill="darken" w="23688" h="21600">
                <a:moveTo>
                  <a:pt x="23688" y="0"/>
                </a:moveTo>
                <a:lnTo>
                  <a:pt x="23688" y="21600"/>
                </a:lnTo>
                <a:lnTo>
                  <a:pt x="22288" y="20200"/>
                </a:lnTo>
                <a:lnTo>
                  <a:pt x="22288" y="1400"/>
                </a:lnTo>
                <a:close/>
              </a:path>
              <a:path fill="darkenLess" w="23688" h="21600">
                <a:moveTo>
                  <a:pt x="23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8" y="20200"/>
                </a:lnTo>
                <a:close/>
              </a:path>
              <a:path fill="lighten" w="23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88" h="21600">
                <a:moveTo>
                  <a:pt x="4838" y="10800"/>
                </a:moveTo>
                <a:lnTo>
                  <a:pt x="18851" y="3794"/>
                </a:lnTo>
                <a:lnTo>
                  <a:pt x="18851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93440" y="365040"/>
            <a:ext cx="7861320" cy="439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мма Аччыгыйын айар улэтэ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907560"/>
            <a:ext cx="7920000" cy="517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Times New Roman"/>
              </a:rPr>
              <a:t>Суруйааччы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аан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бастакы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айымньы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Times New Roman"/>
              </a:rPr>
              <a:t>Суруйааччы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поэтическай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8"/>
              </a:rPr>
              <a:t>айымньылара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9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10"/>
              </a:rPr>
              <a:t>подробнее</a:t>
            </a:r>
            <a:r>
              <a:rPr b="0" lang="ru-RU" sz="1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ff9966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1"/>
              </a:rPr>
              <a:t>Прозаическай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2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3"/>
              </a:rPr>
              <a:t>айымньылара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4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15"/>
              </a:rPr>
              <a:t>подробнее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Драматическай айымньылара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16"/>
              </a:rPr>
              <a:t>подробнее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7"/>
              </a:rPr>
              <a:t>«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8"/>
              </a:rPr>
              <a:t>Сааскы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9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0"/>
              </a:rPr>
              <a:t>кэм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1"/>
              </a:rPr>
              <a:t>» роман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2"/>
              </a:rPr>
              <a:t>бастакы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3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4"/>
              </a:rPr>
              <a:t>редакцията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25"/>
              </a:rPr>
              <a:t>подробнее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6"/>
              </a:rPr>
              <a:t>«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7"/>
              </a:rPr>
              <a:t>Сааскы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8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9"/>
              </a:rPr>
              <a:t>кэм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0"/>
              </a:rPr>
              <a:t>» роман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1"/>
              </a:rPr>
              <a:t>иккис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2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3"/>
              </a:rPr>
              <a:t>редакцията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34"/>
              </a:rPr>
              <a:t>подробнее</a:t>
            </a:r>
            <a:r>
              <a:rPr b="0" lang="ru-RU" sz="1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35"/>
              </a:rPr>
              <a:t>хронологи изданий романа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6"/>
              </a:rPr>
              <a:t>Тылбаастара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7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38"/>
              </a:rPr>
              <a:t>подробнее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9"/>
              </a:rPr>
              <a:t>Ахтыылара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40"/>
              </a:rPr>
              <a:t>подробнее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41"/>
              </a:rPr>
              <a:t>Мординов в газете «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42"/>
              </a:rPr>
              <a:t>Бэлэм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43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44"/>
              </a:rPr>
              <a:t>буол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45"/>
              </a:rPr>
              <a:t>»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8000"/>
                </a:solidFill>
                <a:latin typeface="Times New Roman"/>
              </a:rPr>
              <a:t>подробнее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8604360" y="6597720"/>
            <a:ext cx="285480" cy="260280"/>
          </a:xfrm>
          <a:custGeom>
            <a:avLst/>
            <a:gdLst>
              <a:gd name="textAreaLeft" fmla="*/ 16560 w 285480"/>
              <a:gd name="textAreaRight" fmla="*/ 268920 w 2854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688" h="21600">
                <a:moveTo>
                  <a:pt x="0" y="0"/>
                </a:moveTo>
                <a:lnTo>
                  <a:pt x="23688" y="0"/>
                </a:lnTo>
                <a:lnTo>
                  <a:pt x="23688" y="21600"/>
                </a:lnTo>
                <a:lnTo>
                  <a:pt x="0" y="21600"/>
                </a:lnTo>
                <a:close/>
              </a:path>
              <a:path fill="lightenLess" w="23688" h="21600">
                <a:moveTo>
                  <a:pt x="0" y="0"/>
                </a:moveTo>
                <a:lnTo>
                  <a:pt x="23688" y="0"/>
                </a:lnTo>
                <a:lnTo>
                  <a:pt x="22288" y="1400"/>
                </a:lnTo>
                <a:lnTo>
                  <a:pt x="1400" y="1400"/>
                </a:lnTo>
                <a:close/>
              </a:path>
              <a:path fill="darken" w="23688" h="21600">
                <a:moveTo>
                  <a:pt x="23688" y="0"/>
                </a:moveTo>
                <a:lnTo>
                  <a:pt x="23688" y="21600"/>
                </a:lnTo>
                <a:lnTo>
                  <a:pt x="22288" y="20200"/>
                </a:lnTo>
                <a:lnTo>
                  <a:pt x="22288" y="1400"/>
                </a:lnTo>
                <a:close/>
              </a:path>
              <a:path fill="darkenLess" w="23688" h="21600">
                <a:moveTo>
                  <a:pt x="23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8" y="20200"/>
                </a:lnTo>
                <a:close/>
              </a:path>
              <a:path fill="lighten" w="23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88" h="21600">
                <a:moveTo>
                  <a:pt x="4838" y="10800"/>
                </a:moveTo>
                <a:lnTo>
                  <a:pt x="18851" y="3794"/>
                </a:lnTo>
                <a:lnTo>
                  <a:pt x="18851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04360" y="837000"/>
            <a:ext cx="7056000" cy="99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Спасибо за внимание!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solidFill>
            <a:srgbClr val="ccff99"/>
          </a:solidFill>
          <a:ln w="936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Times New Roman"/>
              </a:rPr>
              <a:t>Ефремова Саргылана Ивановн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кандидат филологических наук,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990099"/>
                </a:solidFill>
                <a:latin typeface="Times New Roman"/>
              </a:rPr>
              <a:t>старший преподаватель кафедры якутской литературы факультета якутской филологии и культуры Якутского государственного университета им. М.К.Аммосов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2543400" cy="3724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1:32:17Z</dcterms:created>
  <dc:creator>User</dc:creator>
  <dc:description/>
  <dc:language>en-US</dc:language>
  <cp:lastModifiedBy>User</cp:lastModifiedBy>
  <dcterms:modified xsi:type="dcterms:W3CDTF">2008-04-06T11:44:12Z</dcterms:modified>
  <cp:revision>26</cp:revision>
  <dc:subject/>
  <dc:title>Амма Аччыгыйын оло5о, айар улэтэ</dc:title>
</cp:coreProperties>
</file>